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004-987F-4701-B784-A976B644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AEF-0508-4F59-BE0F-F062E8E8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E1133-40BD-47B0-800A-2F2598B2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E26F7-5AAE-480F-8969-65F8EB70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F4A99-FA41-48EF-A40F-4770F8BB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BCA18-1107-4FAF-85CA-FD802CD1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8CAC0-54C7-4194-9E48-10FC737E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2DCD1-C6CC-4DDF-9FE0-EF408BCD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63307-3C7E-4F03-9017-886D7D4E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79B60-8301-451F-81A9-483CBDEA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9A9DC-C4A3-4A91-80EA-80432848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21671-FC3E-4C14-9737-A06CFA81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3D1-8553-4902-A51C-BB8652EE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EE35D-2F13-4BE8-A986-0BDDB290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7E58A-9999-4DFA-992B-FA4D2CA7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57D64-880A-4021-8E86-042095FC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0553E-306F-4522-898A-9EE7F27C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197F3-727A-40F6-BED0-13E93EC7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C48E3-4A0D-48A3-9F2F-27916A03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AF584-78DE-4767-8A37-692D5922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AB577-2675-4CD1-B36C-10F320D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FAE64-8A43-4F25-9FA5-8375A39E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5C95C-861A-4672-90C7-0D1D4B62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A4D-576A-4C5D-B2D9-56ABA3BA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2102D-9460-4416-A7F7-5B577DC5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3980C-23B5-4A64-B569-3572ED81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F97D1-619E-40F7-B078-7D38A0F5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BB7C1-09E9-4092-BA9A-57A9D18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5A6BB-DA80-4D11-A0AC-68B56469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B22CB-0095-46E0-B9BB-F1CA8E97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4741D-99C9-478A-AED7-E205114C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3774D-D6E6-448F-B7ED-EE44C1BF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12153-92DE-4729-912F-E698FEF4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9B039-771D-4829-8786-641CAEB9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8328-CB72-4D97-B5D0-C620950E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097A6-ABBC-4681-85A4-6395916C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B741F-443E-40A0-BA75-60C40413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FDA91-ED8D-4F57-A90E-F073808B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6AC54-3FAC-4896-991E-ABF5F76D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5C006-07D1-4486-9E2C-B44D78FE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25B09-430D-4E36-8D3C-669F7E42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026D7-CD8E-428F-9733-6E7E090B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289E6-8B15-411C-B69F-5C459C5B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70D75-7486-4A69-9556-2402A577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F2069-7F3D-4287-B696-9B8B300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62B9-868E-478F-BA7D-A5EA9A7C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EC0E2-1D8A-406D-8A24-665A5260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F1633-FF3B-419A-81AD-98BD6346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7FBB3-5017-4C7A-A196-47442E10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985B0-4003-4AF4-B0C8-DEF98863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6CD00-D820-48D3-9801-EA147DEF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A23F4-D699-481E-9B60-254060CC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44AA0-42E0-41F6-82C9-DCA65ACF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F96D0-779F-4B85-A1F5-F4D9C308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69951-164C-4E53-A0A5-42E35DB1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EDD2F-E639-4428-A704-B7E3FA65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8851-6FBA-4721-9DFE-C453F50B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48D05-DBED-440F-B64E-9672B869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4D8CA-78E4-4F1E-BA9C-D2F528B4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5F950-BE12-4F3D-8DE8-7CD3B2F0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C78CF-9DD9-4A68-A2AA-4789EE96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7DFBA-9E2D-483B-BCB9-5C500B49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5AF09-07B2-4864-846E-41664C46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25F12-4CE4-4483-99AC-BDFF903F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092A6-14EC-497B-920E-EF45B2BE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19A8E-03C3-46F0-BB68-C56F2601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7B776-ACDF-4BC6-8D42-4D964F7A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61FC-9A5F-4B30-B686-4178BE48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E3296-1FE6-436F-8522-7803D55D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62683-237B-4F7D-A939-7848857E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52535-BD7A-4D3B-A248-5FA90783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F140F-3D54-4213-8696-415A7266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38655-CEE2-4BC6-A221-EE624C8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622BC-7D60-4937-95BA-3C0D6E32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18B72-D6CB-496B-BD78-E15E4F2F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13230-552A-436C-A906-5665A624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9A64A-E9EB-40E9-BA8E-B08B06AD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115FE-A89A-48D5-915F-C51A6BCB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1583-E703-42A7-8F28-B3F531F6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4B06D-1E79-402F-84EA-3BE27312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A42D2-9876-47FE-BE41-045B662A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03542-4F06-4BFD-8850-614749E0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99B9E9-814C-4778-9130-9ED0E28A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8DB7FB-2227-40DF-8CD3-54C16FF5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D423D-2B01-43FE-A81C-2A972695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8C1AB-A083-41BC-889B-18689831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67063-3FA6-48EC-8F37-5A44309E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64B30-66CE-404C-B033-0CA11D9B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BD24E-E828-44FA-9815-DCB21C21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1E09-AB7A-4788-9E38-447372C5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17FD7-B82E-499D-BC17-22A60F93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F2406-F7BF-4B2D-BD60-528934E2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787F6-B96B-401C-BF77-914D273D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D2715-EDEF-4F26-AD54-3E1BE6D5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E96EF-E712-41EE-8C70-E8B43666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606721-B736-4710-B952-1ACD6895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8E8B12-FCF7-4126-A600-C8F5183B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C19BB-FC3B-4546-A7A7-F58583EE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9D9633-8FF4-4990-9BC8-FB3DB651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CE8A9-8272-4950-BD0C-991A329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CE39-7AEF-427D-AC88-3CEAF252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A1032-5CFF-4921-A93B-D3580E47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8F99A-0FEB-4216-B625-33FD8A97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82570-CC96-45A4-A6E9-32D1C5D2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669578-89B2-44D1-B9D3-C52FC673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01609-ED6C-4427-AD7E-F0FDB3D8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6FC1B-8C7C-4311-9489-E8E9AA5D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06DAF0-A4FB-47B6-AD09-B8730534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5A9C5-11FD-4B2F-984B-C915ED9F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0CA64-FFCA-4631-9ACA-3713BAF3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C8778-1A44-4AEA-AB16-2BA38F12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37C-AB44-4827-9E0F-3BC997AC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CF4E-1F99-4255-BBBA-A6B29848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27B46-80B0-4CC2-AF96-CC699FB7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035EB7-A5FD-4DEB-8ED6-C553881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373C6-ADF7-446B-9BAC-D2E8CE9F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8B4D0-0116-4D5F-A256-CE195EC2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EE0AF5-5777-4521-B81A-7EE99A12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1D117-1F80-4C85-9D58-D0D9EF84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834567-2B86-4E39-AAB5-30720FB2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58AD2-1CF3-452B-BB36-B43B7B7A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3E4EC7-D8E1-4FFF-A861-6C897949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64E68-B3AF-400A-9AEF-031D744F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AFCC-26ED-4BB4-8EFD-92FB0749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4512D4-3A52-401C-B4D1-B7F533A8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B4860-D5B9-4A63-9DD1-DAE87FF2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512B1-58CB-4180-92CB-796A82D9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C57CE3-1788-417F-8AD9-9E89B1E2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06305B-69C6-4CD9-8134-C2DE7DA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36354F-E109-42D3-8928-C682379F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C0F5E-6DC1-4E23-AC94-5BC894FD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208B26-5D78-4DE9-81D5-FAF50F2C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8D9B4E-7BAA-411A-AC01-BAB21494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1311CC-1729-4B7F-845A-D9F113E8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59E3-A327-4CA8-9548-19B3409F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2CAFD-6826-4691-A3B0-EE141532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1F0473-8F56-4BA5-B853-C92D17F7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842FA-EEDB-4910-8A72-149EF730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7B24FE-67EE-43B7-AD7A-CC20451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29D25-9A1C-4955-B136-70AF52C8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7FF094-6D08-4AE0-B637-B622FF2F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DB25E-DAF9-4AC6-9751-407AF49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5E160-3892-4364-AF73-53719E1C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65BEF-EA5E-40F3-8F35-656662C1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F8692-D5F4-47C3-B75E-00A387F4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EC1B-214D-40D1-BEAB-6EBDC81B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027078-8A8F-4010-B26C-DA4AB0E0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881D66-693A-45AE-B907-25B988F4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2914D-B044-4642-B788-1ADCFC56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ADB57-9B09-49EF-A0D7-3FD2C022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68EF38-9866-46CB-81E4-2F4F4D19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8A92C-F01F-49A9-BA6C-4BFE1B8D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145F9-6863-4671-BE1C-5D7DED45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ED4DD-E5BE-421B-A46A-3E67899E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41DA0-4D76-4763-9422-E1A376A5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721ADF-8E70-4339-A406-59BA47AC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986B-57AB-4199-B712-F921EDD8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6B8822-A08A-4547-9C5B-C0FB188D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44898-0F6F-42B3-AC93-76C0AAB7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01020B-A4A9-4EC2-B98A-4ADAC9F3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75920-ABF0-4B8F-A9B0-048FBEE1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24BEF9-B4DB-4C0A-9A4A-00582537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8EBA3A-F601-4A7E-A061-3520FC2E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CF1A1D-29B9-49FA-A665-D83FE0E6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0AAC6D-D820-41B2-A523-D781732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43C04F-517F-4AE4-96E0-BC5D81C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779449-ECFF-43F6-8A03-0B1AC9CE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73E1-036E-4432-BD6F-05C9E34B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639ED2-EB20-467E-9FE0-AB6B0CCC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32672-1786-459A-BA59-FA99DF08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9B5512-94A3-422A-9D0C-EC161FD3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1F7AA-8391-46E1-94A2-C435AE1C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9FAC2D-65FB-4A5F-BB4F-8D6B180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62103C-83B9-4AF8-AE35-B4E8AAA3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350F41-D5C6-4ABF-9395-3AFEA540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9FC81C-3916-4DFF-8D72-23C10D65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F4B203-80F3-4651-8875-FC11FFBA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0A86FE-B8E1-4026-9952-A6FE7F05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182F-8D33-4B87-A357-1CFA2244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A7D0A8-D5EF-449B-A827-243878D4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6AA7D3-F374-4CCD-9032-AD581B4C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8B496D-F952-42C5-AEF1-F2DEC22C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822E20-ED4F-47C7-8586-EE962459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6FE012-E910-4907-A32B-59AE5172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741518-CC99-4E2F-90D2-E9622395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044CF1-F2D5-4EE8-B9A5-DAFA5E85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47AF1B-DC18-40C0-AD75-52FEBB78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FC542E-18D4-44CE-B4BE-F5597EB2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F701ED-470C-422D-88EA-D8005974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DB1FD-8557-4065-943F-34937A77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18C9DA-3AEE-4E54-88A5-066DADD8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0F3F96-54E3-4868-B807-BDE99BCB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7A3B96-CF0F-45B1-BD6D-7BAE13C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5FF62A-39E1-4063-A8E7-11B6FA9B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5B375C-BFB3-4DFB-9778-0C727A3E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A90937-4756-4789-BF43-175FA7D0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7AF553-E8FC-46D5-B4A7-8723A1CF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3A9DD1-CED8-44F2-A490-B05FDCC5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5690EA-EC2F-4AD9-A9F5-F777259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817FBA-7795-4C1B-8D05-256035EA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F31C-045C-4BE4-B835-469BE4E6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185118-BFF7-4D5D-8C50-FAF31955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5164B2-E5BC-42F0-A1E1-BA4D6D2E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1A517F-21DB-44D7-ADB2-C2793CD6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23A524-95A4-4064-9E12-71851F09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81BFB9-4502-4182-98AA-B9DA84A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5E3B66-BF01-4C83-BEFC-999F52FC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9F60F4-1A00-49A7-9608-399C6379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1C3551-AED9-47F7-8BE8-EAD59702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CBB5B9-E91D-4905-BDFA-E0E89A56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5D11BE-9629-4318-B73F-0D4BE2B9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92C4-40AC-4F31-AD4D-46C5D25D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98C49A-EC76-43D2-BBBE-34CBE709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112D63-F65A-43DB-8802-7EFC00D3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F73020-A54E-4DFA-8C83-3CF4CC51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E4FFFC-C37F-4AAA-9604-7E7A239E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130591-A384-4A67-9B0D-7E62229D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E9F8D9-F671-4500-AB6F-1BC4AC00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34EDA4-5448-47C9-A828-40EC6A43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33F326-3963-40A8-AC72-B578A024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412EBE-11F9-4E51-BCAD-7FA7C4F0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509C04-BEE1-48BF-8A01-3D857A38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C75-56D6-436E-8238-CA4E207C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466C-9E0A-473F-9882-E5D94D31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9BE6CB-ED7E-45FE-AFA9-9816F21B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151CDA-5A0A-4E25-ADA1-8491E16E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7FA4A8-E609-40E4-BE27-45E0BCFD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03849D-37BC-4B6A-B4D5-50C6B4A5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7B9086-D141-4120-B7BD-E691644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F9028C-9151-4090-BCAA-08730CF4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73E2C3-388A-45FE-9413-8D178044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19BEAF-EBB2-4ED7-9BC7-928E87F1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F60E39-BA93-4571-BC73-5AEC4D36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568815-216C-41B6-B630-B37F7B0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36AD5-DC23-4E7D-BF8C-419A49CF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B530D3-5AE8-4513-85DE-F01C5343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935E2E-DBEE-49DD-B4F4-CAA51F83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A2344F-D5ED-4D33-BF3A-702990BB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6084FD-30CA-431D-AE0A-9581D39D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260A87-6DD1-4609-ACE8-5333CDB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92A660-F540-468F-9A4B-73181A5C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6C2864-5A34-4A1B-8789-1C907EE7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824D37-0910-4704-9551-C0582114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24F181-6D87-4797-AD8F-905A8E31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A13076-5F8F-46DA-8B20-07EAA78F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15AE1-6DFF-44E9-BB42-80DCA113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D1A263-B6ED-4000-938D-8F4B1EA1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45AE39-D807-4C45-B76C-BF5A5A2E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EE7097-0279-4323-B641-93FBCF37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13FDFC-02D4-4527-A297-A23E69AE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7ABA96-C705-4103-AAF5-5615E926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3A9213-A57A-4C05-899B-429A096B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C017EF-8EB2-4DFC-A2A0-68744DE8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CAA6A7-4408-43D5-87D9-326A4686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025AF5-7673-42EB-866B-B414EA86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FE9E87-062B-4956-BDA3-EC9791E5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2F5B-5B67-4576-AAC7-820AE5A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72E56A-B3DF-4253-8503-B3B34E6E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DC064D-39F6-47BD-BD78-ED823C69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55359E-D61A-4555-8115-E269D380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7E680E-B2C2-477D-989A-31600DD7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56393E-F6F0-4BBF-90B1-FCB9457B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14F2D2-5B90-4A1E-ACC6-43D01944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1B17C4-8194-44DF-B832-A0F4E920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08F0EB-7C9A-4BE2-B720-2E55504E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EFE680-DAC2-4B31-8F5D-F431A28E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31C903-8BB6-4642-BF18-B69D4C01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6EC9-DBDE-454A-8ADB-81FFB14A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A09E02-8048-4138-A012-45CD4EE3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64E0E8-302A-4D38-962A-C9387C2A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DE052D-009D-4F7C-A19F-68DA8306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175F82-9C12-4182-BB3A-799471E2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221427-491F-4460-A050-F025E805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B94242-4070-49AC-A45F-A450CAF4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F63271-6CD4-45EE-B809-AFDE033A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4859E1-526D-4223-9805-72895550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33C217-3009-471F-AE0A-3DD0B470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CB6347-DD70-4E5C-AAF7-69A5A244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ED89-5374-42EB-81EB-C0A5CA0B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23325D-6982-413F-B1D3-F3156933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B3AA9B-916E-4573-B144-8F9A4A7E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C7B0FC-3AB5-48CC-85E2-395CAB84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405CBE-50CC-4878-A7C2-3172F835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C30C91-68E9-431A-B7B8-5BC16BC5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8D7975-D4FC-4B53-91EA-AD830D35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63BD10-88E6-42C7-A5D6-63514D96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2EFFE8-C4DB-4B97-B617-E04CB992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A211DE-EA1D-42DA-AE76-5F18C1C3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4328B3-4433-4908-8075-5D84A191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3E02-48E5-4080-8782-92B657FD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730286-0B99-42DE-94E6-CC1C8F04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3124B1-7DA5-4735-94FB-40969349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B84169-E73E-414C-B85D-144670AD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D8F65D-0C48-4F59-B156-58E628D8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2DF62A-F917-4158-BB59-492616D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62F612-D467-4106-8912-ABC8D09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7DFF45-9AD2-437A-AD44-026E00D4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727ABE-A8AF-45F7-B64F-1DBA212C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ED7741-2E97-465C-8A49-2BFEEEA3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E77378-3015-42D3-8553-12D9EDFD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219FD-47A0-448A-A227-6697E3A7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98F699-BF1E-46F8-AC1E-DF15A25A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381FDE-1457-4C25-8068-6D24850E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4AFD8E-FF05-4925-A42B-B028DE92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E599-9503-4B7F-A843-880F8B70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41A8-EE9C-40A4-9E57-677F8B19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FA2-367E-4144-AD8F-8FADEC50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F4B7-859F-4023-ADE6-0B724890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DFF45-A48E-4A6E-97EF-1A1673E6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CED76-E9D6-4933-A603-0D6DBDF3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4946-234F-4817-86B2-4D1479A1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78519-8294-4C29-B648-E4C47D35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80239-BD8F-4118-BCB4-1A09E813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FF81D-2C1C-42CD-A04C-63A52420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D8B5-5DB5-4B64-8D58-74C0E7D0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6B14-F92A-45B2-8E77-D4BB40BF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D2338-DAEC-4AE5-A7E6-0430F3C4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9A6-6230-43E3-AF3A-F6CC8594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F0E9F-07EF-4A1C-BDEB-1D788BA3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50E08-2842-4BE4-B309-E978DC2C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042F2-400A-4F1B-8FC4-47EDBDAD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1DA7-5B31-40B5-9BD2-47EC8581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9E090-8EAB-4903-BEF2-0A64D64E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D1362-F0DD-4964-9CF6-1283BADD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403C3-4C9A-4511-B4C1-B8025C52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192BE-01BE-4CD5-B19A-475F11F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F7F5D-8F7D-4E7E-A209-CD734E98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5AFD9-4195-4EBA-AA6D-F30CDFB7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428-6BA8-449F-AE5D-5C0025CF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A3CAB-973A-47B4-A419-C76F6166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3425B-9C9A-49C3-836D-0C88183A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D16EE-28FE-4F64-9B2A-EB871E2E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B42AF-FB90-4954-B4F5-9FAA1A26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253F2-6B34-4F32-9D98-9D130472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DB44F-2403-445C-8FB2-CA9D132D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EEB05-FAC3-4BD8-ABE5-6A32BFFB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DFB52-EEDA-406E-983F-3151E4FA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23AE4-76B2-44EA-A071-81EF6AFD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C1E48-9F3B-4242-8013-1B4CAB69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A81-E24C-472D-B538-2A06E4AF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BA2FC-70B4-4486-A68B-E4B1534C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CECBF-B445-4644-A571-EDB0B2AE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0C075-B82D-4413-A59D-C8CD6191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41D2C-1F0F-408A-8AC6-5FEB5792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C20C-8EFB-41C8-8A84-6A316417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72FF8-3B87-43D9-950E-BD9253C5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D6F00-AEC3-4056-8829-45758CEB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24A28-964B-4306-AC23-40B8B8B7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73C1D-700F-48BE-A764-546B6C35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C74B0-8B69-4C33-A326-E104FFA2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2C8-B2B6-4E35-B5E8-3EBA156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2367D-3372-4BAE-8E6E-18793A01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4E63-E280-4DDF-8C47-CED06400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B7164-7ED5-43C7-896F-2D9833EA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107C1-20A6-4B99-B092-CD94AB22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A9A3B-2ED7-44A5-87A5-9A85E98E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99982-6ED9-465A-AA81-09D54620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5F076-51D3-4B61-8467-62B8F6D0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6899E-9A95-4E23-AFA4-3D7E56B0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7BF69-16CE-45AE-ACD8-1820E60B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9E9D9-6C83-4D6F-8343-025D9045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C96-6C77-4A15-BD0B-4D36A704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C65EF-E942-47D3-8BDF-D5031BC0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39F33-597E-4852-B576-288DF42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EEA47-2A61-4E25-A1D6-00D31F6A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5D194-F918-4DD4-A385-A9529E4E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7DF18-AA39-4FAD-B3C7-CF7BA3D4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8AD1E-1AF7-4DD8-B1AC-D3E5C147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4F143-3C6B-4594-96AB-F389121A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CD7B7-98BF-4432-A7EC-F27471C5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8050A-CA10-4A1A-9F69-B4748F7A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35DFE-95A6-41FA-BDCD-03489B07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1AF0-7C36-43BE-B848-95994E1DB8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E71F-2BC4-4866-9B50-9CC02C7D50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B33B-EA04-4775-B3D5-5F280F0A7F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F63E-E6F8-4C2F-B0D3-029058E8F9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F923-0071-42D3-A48C-7D409C1ACA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6314-D9FC-46B5-8261-D3AA16444F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346C-7C52-4DC5-B467-00C3C7655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DB2C-9EAD-4269-AB84-40525F266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2409-2D45-49D9-B591-B75E9A443F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D2FE-30BC-41CB-A780-817ED5D884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6FF5-A31A-49A1-8704-470689637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BC78-9D90-4ACD-84EB-FC60CFDB62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ECB6-5034-43B3-92EC-23BD91E469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867A-1AC9-40C3-A5DB-C7A715F5AA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ED95-F0F9-4551-A837-CEED6CDDC1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0379-6257-4CA6-BD3D-B4AFA40774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1D5D-EFFB-44AC-B1DA-3D822E7C74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1065-24C6-4903-8D5E-855C937C63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7EC9-2B7B-4296-8E37-9C044A4397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1160-4D29-428A-BBA3-3A24F1B50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8A0A-AFF3-4789-B69E-229C7783BC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A1E9-8586-4945-AEC2-6D25AD679E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D1B8-01CB-4BD8-B9A2-A3D6D9FFCE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3CC2-05F5-465D-8CFF-96C7BD7B00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7623-7B7E-4AB9-9808-CB3FFEF9D8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7CAF-8E82-4AF9-A65B-B7A78CEAA7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D98-C92F-4FE7-9A3A-57E7D384A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8FF7-AB95-493B-9E99-E80E6522FE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CA9A-CC5B-46C3-9A49-841337309D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0276-EBBD-43D5-8A14-54AA1FDE8A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BD28-9FD4-4915-B0B5-06AA24B6F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73A4-601B-43BB-8F5A-AF9BE1A208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5479-9486-4F30-B549-996B9E7116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21B2-9DCB-4A11-9707-1A331729E9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26B4-3150-412E-8942-A4E01120D5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1648-17AD-4A85-A679-FAFDA65332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A3B8-2DDE-4185-AC7F-576BF15F35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5F2A-5BB3-4F23-B23C-A29B12D277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FCF8-FEB0-4CB9-89DC-4832D76AF0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36C1-D3ED-40E5-B3E2-5DE3019365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19CC-2229-4A89-AF3A-ADEDBFBF48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1E03-78E8-4C39-8BCD-05466B9593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C0FE-B371-4E93-A443-313792161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1508-0AA8-4591-BFA4-C230CA6876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8465-14E1-4202-8555-2C4B601278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377D-47DF-4A26-ABF1-CE9E498784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CC25-1D22-4365-9725-50C0A50905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8581-128A-42A5-AA91-93E177760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FE90-ED7F-42E9-BDE7-3C2FC67A25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B580-5944-4C28-8194-CBF1596B49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38360" y="2085840"/>
            <a:ext cx="4124520" cy="7621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3100320" y="2967120"/>
            <a:ext cx="2828880" cy="73332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476360" y="3860640"/>
            <a:ext cx="6248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6737" descr=""/>
          <p:cNvPicPr/>
          <p:nvPr/>
        </p:nvPicPr>
        <p:blipFill>
          <a:blip r:embed="rId1"/>
          <a:stretch/>
        </p:blipFill>
        <p:spPr>
          <a:xfrm>
            <a:off x="561960" y="1181160"/>
            <a:ext cx="8020080" cy="449568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6738"/>
          <p:cNvSpPr/>
          <p:nvPr/>
        </p:nvSpPr>
        <p:spPr>
          <a:xfrm>
            <a:off x="1981080" y="3867120"/>
            <a:ext cx="38862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6739"/>
          <p:cNvSpPr/>
          <p:nvPr/>
        </p:nvSpPr>
        <p:spPr>
          <a:xfrm>
            <a:off x="8134200" y="450540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6740"/>
          <p:cNvSpPr/>
          <p:nvPr/>
        </p:nvSpPr>
        <p:spPr>
          <a:xfrm>
            <a:off x="1042920" y="5167440"/>
            <a:ext cx="2533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571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2008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4689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410600" cy="513396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4690"/>
          <p:cNvSpPr/>
          <p:nvPr/>
        </p:nvSpPr>
        <p:spPr>
          <a:xfrm>
            <a:off x="1895400" y="1514520"/>
            <a:ext cx="11239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4691"/>
          <p:cNvSpPr/>
          <p:nvPr/>
        </p:nvSpPr>
        <p:spPr>
          <a:xfrm>
            <a:off x="5580000" y="2133720"/>
            <a:ext cx="268596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4692"/>
          <p:cNvSpPr/>
          <p:nvPr/>
        </p:nvSpPr>
        <p:spPr>
          <a:xfrm>
            <a:off x="1362240" y="2819520"/>
            <a:ext cx="40932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4693"/>
          <p:cNvSpPr/>
          <p:nvPr/>
        </p:nvSpPr>
        <p:spPr>
          <a:xfrm>
            <a:off x="6486480" y="4149720"/>
            <a:ext cx="17622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4694"/>
          <p:cNvSpPr/>
          <p:nvPr/>
        </p:nvSpPr>
        <p:spPr>
          <a:xfrm>
            <a:off x="3635280" y="5478480"/>
            <a:ext cx="2676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4695"/>
          <p:cNvSpPr/>
          <p:nvPr/>
        </p:nvSpPr>
        <p:spPr>
          <a:xfrm>
            <a:off x="1297080" y="4816440"/>
            <a:ext cx="409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366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81920" cy="1047960"/>
          </a:xfrm>
          <a:prstGeom prst="rect">
            <a:avLst/>
          </a:prstGeom>
          <a:ln w="0">
            <a:noFill/>
          </a:ln>
        </p:spPr>
      </p:pic>
      <p:pic>
        <p:nvPicPr>
          <p:cNvPr id="1476" name="图片 113666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781680" cy="213372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113667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7458120" cy="270504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13668"/>
          <p:cNvSpPr/>
          <p:nvPr/>
        </p:nvSpPr>
        <p:spPr>
          <a:xfrm>
            <a:off x="7448400" y="3600360"/>
            <a:ext cx="10004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3669"/>
          <p:cNvSpPr/>
          <p:nvPr/>
        </p:nvSpPr>
        <p:spPr>
          <a:xfrm>
            <a:off x="1528920" y="4265640"/>
            <a:ext cx="520056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3670"/>
          <p:cNvSpPr/>
          <p:nvPr/>
        </p:nvSpPr>
        <p:spPr>
          <a:xfrm>
            <a:off x="4788000" y="5084640"/>
            <a:ext cx="365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3671"/>
          <p:cNvSpPr/>
          <p:nvPr/>
        </p:nvSpPr>
        <p:spPr>
          <a:xfrm>
            <a:off x="1476360" y="5762520"/>
            <a:ext cx="13622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2641" descr=""/>
          <p:cNvPicPr/>
          <p:nvPr/>
        </p:nvPicPr>
        <p:blipFill>
          <a:blip r:embed="rId1"/>
          <a:stretch/>
        </p:blipFill>
        <p:spPr>
          <a:xfrm>
            <a:off x="861840" y="1800360"/>
            <a:ext cx="7420320" cy="325728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12642"/>
          <p:cNvSpPr/>
          <p:nvPr/>
        </p:nvSpPr>
        <p:spPr>
          <a:xfrm>
            <a:off x="2771640" y="2476440"/>
            <a:ext cx="54295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2643"/>
          <p:cNvSpPr/>
          <p:nvPr/>
        </p:nvSpPr>
        <p:spPr>
          <a:xfrm>
            <a:off x="1332000" y="3141720"/>
            <a:ext cx="3114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2644"/>
          <p:cNvSpPr/>
          <p:nvPr/>
        </p:nvSpPr>
        <p:spPr>
          <a:xfrm>
            <a:off x="6138720" y="3789360"/>
            <a:ext cx="21243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2645"/>
          <p:cNvSpPr/>
          <p:nvPr/>
        </p:nvSpPr>
        <p:spPr>
          <a:xfrm>
            <a:off x="1403280" y="4479840"/>
            <a:ext cx="11905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1617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58120" cy="308628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111618" descr=""/>
          <p:cNvPicPr/>
          <p:nvPr/>
        </p:nvPicPr>
        <p:blipFill>
          <a:blip r:embed="rId2"/>
          <a:stretch/>
        </p:blipFill>
        <p:spPr>
          <a:xfrm>
            <a:off x="1297080" y="4594320"/>
            <a:ext cx="6800760" cy="46656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1619"/>
          <p:cNvSpPr/>
          <p:nvPr/>
        </p:nvSpPr>
        <p:spPr>
          <a:xfrm>
            <a:off x="1609560" y="1971720"/>
            <a:ext cx="4800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1620"/>
          <p:cNvSpPr/>
          <p:nvPr/>
        </p:nvSpPr>
        <p:spPr>
          <a:xfrm>
            <a:off x="2916360" y="3284640"/>
            <a:ext cx="51721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1621"/>
          <p:cNvSpPr/>
          <p:nvPr/>
        </p:nvSpPr>
        <p:spPr>
          <a:xfrm>
            <a:off x="1258920" y="3933720"/>
            <a:ext cx="353376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1622"/>
          <p:cNvSpPr/>
          <p:nvPr/>
        </p:nvSpPr>
        <p:spPr>
          <a:xfrm>
            <a:off x="2195640" y="4581360"/>
            <a:ext cx="37051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1059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962840" cy="1000440"/>
          </a:xfrm>
          <a:prstGeom prst="rect">
            <a:avLst/>
          </a:prstGeom>
          <a:ln w="0">
            <a:noFill/>
          </a:ln>
        </p:spPr>
      </p:pic>
      <p:pic>
        <p:nvPicPr>
          <p:cNvPr id="1494" name="图片 110594" descr=""/>
          <p:cNvPicPr/>
          <p:nvPr/>
        </p:nvPicPr>
        <p:blipFill>
          <a:blip r:embed="rId2"/>
          <a:stretch/>
        </p:blipFill>
        <p:spPr>
          <a:xfrm>
            <a:off x="1301760" y="1760400"/>
            <a:ext cx="6524640" cy="1675080"/>
          </a:xfrm>
          <a:prstGeom prst="rect">
            <a:avLst/>
          </a:prstGeom>
          <a:ln w="0">
            <a:noFill/>
          </a:ln>
        </p:spPr>
      </p:pic>
      <p:pic>
        <p:nvPicPr>
          <p:cNvPr id="1495" name="图片 110595" descr=""/>
          <p:cNvPicPr/>
          <p:nvPr/>
        </p:nvPicPr>
        <p:blipFill>
          <a:blip r:embed="rId3"/>
          <a:stretch/>
        </p:blipFill>
        <p:spPr>
          <a:xfrm>
            <a:off x="1192320" y="3645000"/>
            <a:ext cx="4886280" cy="399960"/>
          </a:xfrm>
          <a:prstGeom prst="rect">
            <a:avLst/>
          </a:prstGeom>
          <a:ln w="0">
            <a:noFill/>
          </a:ln>
        </p:spPr>
      </p:pic>
      <p:pic>
        <p:nvPicPr>
          <p:cNvPr id="1496" name="图片 110596" descr=""/>
          <p:cNvPicPr/>
          <p:nvPr/>
        </p:nvPicPr>
        <p:blipFill>
          <a:blip r:embed="rId4"/>
          <a:stretch/>
        </p:blipFill>
        <p:spPr>
          <a:xfrm>
            <a:off x="1204920" y="4143240"/>
            <a:ext cx="7362720" cy="257184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10597"/>
          <p:cNvSpPr/>
          <p:nvPr/>
        </p:nvSpPr>
        <p:spPr>
          <a:xfrm>
            <a:off x="4457880" y="3581280"/>
            <a:ext cx="10378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0598"/>
          <p:cNvSpPr/>
          <p:nvPr/>
        </p:nvSpPr>
        <p:spPr>
          <a:xfrm>
            <a:off x="3684600" y="4770360"/>
            <a:ext cx="4390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0599"/>
          <p:cNvSpPr/>
          <p:nvPr/>
        </p:nvSpPr>
        <p:spPr>
          <a:xfrm>
            <a:off x="2987640" y="6222960"/>
            <a:ext cx="18003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图片 109570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191120" cy="943200"/>
          </a:xfrm>
          <a:prstGeom prst="rect">
            <a:avLst/>
          </a:prstGeom>
          <a:ln w="0">
            <a:noFill/>
          </a:ln>
        </p:spPr>
      </p:pic>
      <p:pic>
        <p:nvPicPr>
          <p:cNvPr id="1501" name="图片 109571" descr=""/>
          <p:cNvPicPr/>
          <p:nvPr/>
        </p:nvPicPr>
        <p:blipFill>
          <a:blip r:embed="rId2"/>
          <a:stretch/>
        </p:blipFill>
        <p:spPr>
          <a:xfrm>
            <a:off x="439560" y="1754280"/>
            <a:ext cx="5496120" cy="533160"/>
          </a:xfrm>
          <a:prstGeom prst="rect">
            <a:avLst/>
          </a:prstGeom>
          <a:ln w="0">
            <a:noFill/>
          </a:ln>
        </p:spPr>
      </p:pic>
      <p:pic>
        <p:nvPicPr>
          <p:cNvPr id="1502" name="图片 109572" descr=""/>
          <p:cNvPicPr/>
          <p:nvPr/>
        </p:nvPicPr>
        <p:blipFill>
          <a:blip r:embed="rId3"/>
          <a:stretch/>
        </p:blipFill>
        <p:spPr>
          <a:xfrm>
            <a:off x="447840" y="2367000"/>
            <a:ext cx="7962840" cy="1666800"/>
          </a:xfrm>
          <a:prstGeom prst="rect">
            <a:avLst/>
          </a:prstGeom>
          <a:ln w="0">
            <a:noFill/>
          </a:ln>
        </p:spPr>
      </p:pic>
      <p:pic>
        <p:nvPicPr>
          <p:cNvPr id="1503" name="图片 109573" descr=""/>
          <p:cNvPicPr/>
          <p:nvPr/>
        </p:nvPicPr>
        <p:blipFill>
          <a:blip r:embed="rId4"/>
          <a:stretch/>
        </p:blipFill>
        <p:spPr>
          <a:xfrm>
            <a:off x="960480" y="4278240"/>
            <a:ext cx="7400880" cy="216216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09574"/>
          <p:cNvSpPr/>
          <p:nvPr/>
        </p:nvSpPr>
        <p:spPr>
          <a:xfrm>
            <a:off x="7658280" y="2333520"/>
            <a:ext cx="409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108545" descr=""/>
          <p:cNvPicPr/>
          <p:nvPr/>
        </p:nvPicPr>
        <p:blipFill>
          <a:blip r:embed="rId1"/>
          <a:stretch/>
        </p:blipFill>
        <p:spPr>
          <a:xfrm>
            <a:off x="581040" y="2228760"/>
            <a:ext cx="7981920" cy="2400480"/>
          </a:xfrm>
          <a:prstGeom prst="rect">
            <a:avLst/>
          </a:prstGeom>
          <a:ln w="0">
            <a:noFill/>
          </a:ln>
        </p:spPr>
      </p:pic>
      <p:sp>
        <p:nvSpPr>
          <p:cNvPr id="1506" name="矩形 108546"/>
          <p:cNvSpPr/>
          <p:nvPr/>
        </p:nvSpPr>
        <p:spPr>
          <a:xfrm>
            <a:off x="7753320" y="288612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图片 10752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066840" cy="533520"/>
          </a:xfrm>
          <a:prstGeom prst="rect">
            <a:avLst/>
          </a:prstGeom>
          <a:ln w="0">
            <a:noFill/>
          </a:ln>
        </p:spPr>
      </p:pic>
      <p:pic>
        <p:nvPicPr>
          <p:cNvPr id="1508" name="图片 107523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7991280" cy="1000080"/>
          </a:xfrm>
          <a:prstGeom prst="rect">
            <a:avLst/>
          </a:prstGeom>
          <a:ln w="0">
            <a:noFill/>
          </a:ln>
        </p:spPr>
      </p:pic>
      <p:pic>
        <p:nvPicPr>
          <p:cNvPr id="1509" name="图片 107524" descr=""/>
          <p:cNvPicPr/>
          <p:nvPr/>
        </p:nvPicPr>
        <p:blipFill>
          <a:blip r:embed="rId3"/>
          <a:stretch/>
        </p:blipFill>
        <p:spPr>
          <a:xfrm>
            <a:off x="1092240" y="2517840"/>
            <a:ext cx="6372360" cy="2381040"/>
          </a:xfrm>
          <a:prstGeom prst="rect">
            <a:avLst/>
          </a:prstGeom>
          <a:ln w="0">
            <a:noFill/>
          </a:ln>
        </p:spPr>
      </p:pic>
      <p:pic>
        <p:nvPicPr>
          <p:cNvPr id="1510" name="图片 107525" descr=""/>
          <p:cNvPicPr/>
          <p:nvPr/>
        </p:nvPicPr>
        <p:blipFill>
          <a:blip r:embed="rId4"/>
          <a:stretch/>
        </p:blipFill>
        <p:spPr>
          <a:xfrm>
            <a:off x="1052640" y="5043600"/>
            <a:ext cx="7343640" cy="160956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07526"/>
          <p:cNvSpPr/>
          <p:nvPr/>
        </p:nvSpPr>
        <p:spPr>
          <a:xfrm>
            <a:off x="7667640" y="2057400"/>
            <a:ext cx="4287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77320" cy="563904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7867800" y="5334120"/>
            <a:ext cx="40932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3908" descr=""/>
          <p:cNvPicPr/>
          <p:nvPr/>
        </p:nvPicPr>
        <p:blipFill>
          <a:blip r:embed="rId1"/>
          <a:stretch/>
        </p:blipFill>
        <p:spPr>
          <a:xfrm>
            <a:off x="542880" y="1866960"/>
            <a:ext cx="8058240" cy="312408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3909"/>
          <p:cNvSpPr/>
          <p:nvPr/>
        </p:nvSpPr>
        <p:spPr>
          <a:xfrm>
            <a:off x="7812000" y="256536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2881" descr=""/>
          <p:cNvPicPr/>
          <p:nvPr/>
        </p:nvPicPr>
        <p:blipFill>
          <a:blip r:embed="rId1"/>
          <a:stretch/>
        </p:blipFill>
        <p:spPr>
          <a:xfrm>
            <a:off x="523800" y="1185840"/>
            <a:ext cx="80964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1857" descr=""/>
          <p:cNvPicPr/>
          <p:nvPr/>
        </p:nvPicPr>
        <p:blipFill>
          <a:blip r:embed="rId1"/>
          <a:stretch/>
        </p:blipFill>
        <p:spPr>
          <a:xfrm>
            <a:off x="746280" y="733320"/>
            <a:ext cx="7524720" cy="602928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1858"/>
          <p:cNvSpPr/>
          <p:nvPr/>
        </p:nvSpPr>
        <p:spPr>
          <a:xfrm>
            <a:off x="5248440" y="790560"/>
            <a:ext cx="295272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1859"/>
          <p:cNvSpPr/>
          <p:nvPr/>
        </p:nvSpPr>
        <p:spPr>
          <a:xfrm>
            <a:off x="1200240" y="1628640"/>
            <a:ext cx="16286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1860"/>
          <p:cNvSpPr/>
          <p:nvPr/>
        </p:nvSpPr>
        <p:spPr>
          <a:xfrm>
            <a:off x="3132000" y="2924280"/>
            <a:ext cx="51152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1861"/>
          <p:cNvSpPr/>
          <p:nvPr/>
        </p:nvSpPr>
        <p:spPr>
          <a:xfrm>
            <a:off x="1082520" y="3597120"/>
            <a:ext cx="7115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1862"/>
          <p:cNvSpPr/>
          <p:nvPr/>
        </p:nvSpPr>
        <p:spPr>
          <a:xfrm>
            <a:off x="1116000" y="4292640"/>
            <a:ext cx="24289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1863"/>
          <p:cNvSpPr/>
          <p:nvPr/>
        </p:nvSpPr>
        <p:spPr>
          <a:xfrm>
            <a:off x="6516720" y="5589720"/>
            <a:ext cx="170496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64"/>
          <p:cNvSpPr/>
          <p:nvPr/>
        </p:nvSpPr>
        <p:spPr>
          <a:xfrm>
            <a:off x="1268280" y="6280200"/>
            <a:ext cx="2733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0833" descr=""/>
          <p:cNvPicPr/>
          <p:nvPr/>
        </p:nvPicPr>
        <p:blipFill>
          <a:blip r:embed="rId1"/>
          <a:stretch/>
        </p:blipFill>
        <p:spPr>
          <a:xfrm>
            <a:off x="547560" y="828720"/>
            <a:ext cx="8010720" cy="247644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0834" descr=""/>
          <p:cNvPicPr/>
          <p:nvPr/>
        </p:nvPicPr>
        <p:blipFill>
          <a:blip r:embed="rId2"/>
          <a:stretch/>
        </p:blipFill>
        <p:spPr>
          <a:xfrm>
            <a:off x="468360" y="3457440"/>
            <a:ext cx="7972200" cy="1057320"/>
          </a:xfrm>
          <a:prstGeom prst="rect">
            <a:avLst/>
          </a:prstGeom>
          <a:ln w="0">
            <a:noFill/>
          </a:ln>
        </p:spPr>
      </p:pic>
      <p:pic>
        <p:nvPicPr>
          <p:cNvPr id="1450" name="图片 120835" descr=""/>
          <p:cNvPicPr/>
          <p:nvPr/>
        </p:nvPicPr>
        <p:blipFill>
          <a:blip r:embed="rId3"/>
          <a:stretch/>
        </p:blipFill>
        <p:spPr>
          <a:xfrm>
            <a:off x="1908000" y="4221000"/>
            <a:ext cx="5381640" cy="23814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0836"/>
          <p:cNvSpPr/>
          <p:nvPr/>
        </p:nvSpPr>
        <p:spPr>
          <a:xfrm>
            <a:off x="7734240" y="411480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9809" descr=""/>
          <p:cNvPicPr/>
          <p:nvPr/>
        </p:nvPicPr>
        <p:blipFill>
          <a:blip r:embed="rId1"/>
          <a:stretch/>
        </p:blipFill>
        <p:spPr>
          <a:xfrm>
            <a:off x="571680" y="1833480"/>
            <a:ext cx="8001000" cy="319104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19810"/>
          <p:cNvSpPr/>
          <p:nvPr/>
        </p:nvSpPr>
        <p:spPr>
          <a:xfrm>
            <a:off x="7867800" y="1876320"/>
            <a:ext cx="4093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19811"/>
          <p:cNvSpPr/>
          <p:nvPr/>
        </p:nvSpPr>
        <p:spPr>
          <a:xfrm>
            <a:off x="1258920" y="4533840"/>
            <a:ext cx="9428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8789" descr=""/>
          <p:cNvPicPr/>
          <p:nvPr/>
        </p:nvPicPr>
        <p:blipFill>
          <a:blip r:embed="rId1"/>
          <a:stretch/>
        </p:blipFill>
        <p:spPr>
          <a:xfrm>
            <a:off x="533520" y="1790640"/>
            <a:ext cx="8076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7761" descr=""/>
          <p:cNvPicPr/>
          <p:nvPr/>
        </p:nvPicPr>
        <p:blipFill>
          <a:blip r:embed="rId1"/>
          <a:stretch/>
        </p:blipFill>
        <p:spPr>
          <a:xfrm>
            <a:off x="477720" y="717480"/>
            <a:ext cx="8001000" cy="1009800"/>
          </a:xfrm>
          <a:prstGeom prst="rect">
            <a:avLst/>
          </a:prstGeom>
          <a:ln w="0">
            <a:noFill/>
          </a:ln>
        </p:spPr>
      </p:pic>
      <p:pic>
        <p:nvPicPr>
          <p:cNvPr id="1457" name="图片 117762" descr=""/>
          <p:cNvPicPr/>
          <p:nvPr/>
        </p:nvPicPr>
        <p:blipFill>
          <a:blip r:embed="rId2"/>
          <a:stretch/>
        </p:blipFill>
        <p:spPr>
          <a:xfrm>
            <a:off x="885960" y="1982880"/>
            <a:ext cx="5943600" cy="2361960"/>
          </a:xfrm>
          <a:prstGeom prst="rect">
            <a:avLst/>
          </a:prstGeom>
          <a:ln w="0">
            <a:noFill/>
          </a:ln>
        </p:spPr>
      </p:pic>
      <p:pic>
        <p:nvPicPr>
          <p:cNvPr id="1458" name="图片 117763" descr=""/>
          <p:cNvPicPr/>
          <p:nvPr/>
        </p:nvPicPr>
        <p:blipFill>
          <a:blip r:embed="rId3"/>
          <a:stretch/>
        </p:blipFill>
        <p:spPr>
          <a:xfrm>
            <a:off x="452520" y="4543560"/>
            <a:ext cx="8039160" cy="1028520"/>
          </a:xfrm>
          <a:prstGeom prst="rect">
            <a:avLst/>
          </a:prstGeom>
          <a:ln w="0">
            <a:noFill/>
          </a:ln>
        </p:spPr>
      </p:pic>
      <p:pic>
        <p:nvPicPr>
          <p:cNvPr id="1459" name="图片 117764" descr=""/>
          <p:cNvPicPr/>
          <p:nvPr/>
        </p:nvPicPr>
        <p:blipFill>
          <a:blip r:embed="rId4"/>
          <a:stretch/>
        </p:blipFill>
        <p:spPr>
          <a:xfrm>
            <a:off x="938160" y="5689440"/>
            <a:ext cx="6477120" cy="1028880"/>
          </a:xfrm>
          <a:prstGeom prst="rect">
            <a:avLst/>
          </a:prstGeom>
          <a:ln w="0">
            <a:noFill/>
          </a:ln>
        </p:spPr>
      </p:pic>
      <p:pic>
        <p:nvPicPr>
          <p:cNvPr id="1460" name="图片 117765" descr=""/>
          <p:cNvPicPr/>
          <p:nvPr/>
        </p:nvPicPr>
        <p:blipFill>
          <a:blip r:embed="rId5"/>
          <a:stretch/>
        </p:blipFill>
        <p:spPr>
          <a:xfrm>
            <a:off x="7343640" y="1844640"/>
            <a:ext cx="1047960" cy="38088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7766"/>
          <p:cNvSpPr/>
          <p:nvPr/>
        </p:nvSpPr>
        <p:spPr>
          <a:xfrm>
            <a:off x="7667640" y="184464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7767"/>
          <p:cNvSpPr/>
          <p:nvPr/>
        </p:nvSpPr>
        <p:spPr>
          <a:xfrm>
            <a:off x="7740720" y="5157720"/>
            <a:ext cx="40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1:38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